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2240" y="1066320"/>
            <a:ext cx="7483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2240" y="3613680"/>
            <a:ext cx="7483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066320"/>
            <a:ext cx="3651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6960" y="1066320"/>
            <a:ext cx="3651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2240" y="3613680"/>
            <a:ext cx="3651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6960" y="3613680"/>
            <a:ext cx="3651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240" y="1066320"/>
            <a:ext cx="2409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52680" y="1066320"/>
            <a:ext cx="2409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82760" y="1066320"/>
            <a:ext cx="2409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2240" y="3613680"/>
            <a:ext cx="2409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52680" y="3613680"/>
            <a:ext cx="2409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82760" y="3613680"/>
            <a:ext cx="2409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2240" y="1066320"/>
            <a:ext cx="74836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2240" y="1066320"/>
            <a:ext cx="7483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2240" y="1066320"/>
            <a:ext cx="3651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6960" y="1066320"/>
            <a:ext cx="3651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240" y="1066320"/>
            <a:ext cx="3651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6960" y="1066320"/>
            <a:ext cx="3651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2240" y="3613680"/>
            <a:ext cx="3651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2240" y="1066320"/>
            <a:ext cx="3651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6960" y="1066320"/>
            <a:ext cx="3651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6960" y="3613680"/>
            <a:ext cx="3651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2240" y="1066320"/>
            <a:ext cx="3651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6960" y="1066320"/>
            <a:ext cx="3651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2240" y="3613680"/>
            <a:ext cx="7483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62120" y="1066680"/>
          <a:ext cx="7696080" cy="518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066680"/>
                    <a:ext cx="769608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066320"/>
            <a:ext cx="7483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>
              <a:lnSpc>
                <a:spcPct val="12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>
              <a:lnSpc>
                <a:spcPct val="12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>
              <a:lnSpc>
                <a:spcPct val="12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>
              <a:lnSpc>
                <a:spcPct val="12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>
              <a:lnSpc>
                <a:spcPct val="12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黑体"/>
              </a:rPr>
              <a:t>章  图形与图像操作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498400" y="1676520"/>
            <a:ext cx="3429000" cy="30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6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本章要点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6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4.1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基本概念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6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4.2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实例介绍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4.2 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实例介绍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84360" y="1715760"/>
            <a:ext cx="564984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6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4.2.1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：颜色与运动控制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6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4.2.2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：绘图程序的设计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4.2.1 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例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：颜色与运动控制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787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程序要实现的功能是通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Listbo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ComBoBo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ap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件的形状和颜色，通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CheckBo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ap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件是否移动。设计步骤（如下图）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窗体中控件的加入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保存项目里的所有文件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设定项目里控件的属性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8764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界面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523880"/>
            <a:ext cx="5658120" cy="34322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86000" y="5334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设计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95272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listbox颜色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81080" y="1676520"/>
            <a:ext cx="5200920" cy="34416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666880" y="54100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3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ring List Edit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852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运行界面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523880"/>
            <a:ext cx="5072040" cy="3414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895480" y="5334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运行结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057400" y="15238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-4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ListBo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属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371600" y="2533680"/>
            <a:ext cx="6248160" cy="2647440"/>
            <a:chOff x="1371600" y="2533680"/>
            <a:chExt cx="6248160" cy="2647440"/>
          </a:xfrm>
        </p:grpSpPr>
        <p:grpSp>
          <p:nvGrpSpPr>
            <p:cNvPr id="205" name=""/>
            <p:cNvGrpSpPr/>
            <p:nvPr/>
          </p:nvGrpSpPr>
          <p:grpSpPr>
            <a:xfrm>
              <a:off x="1377360" y="2540520"/>
              <a:ext cx="6235560" cy="2633040"/>
              <a:chOff x="1377360" y="2540520"/>
              <a:chExt cx="6235560" cy="263304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1377360" y="2540520"/>
                <a:ext cx="2733480" cy="877320"/>
                <a:chOff x="1377360" y="2540520"/>
                <a:chExt cx="2733480" cy="8773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464840" y="2540520"/>
                  <a:ext cx="2558880" cy="87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377360" y="2540520"/>
                  <a:ext cx="2733480" cy="87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11200" y="2540520"/>
                <a:ext cx="3501720" cy="877320"/>
                <a:chOff x="4111200" y="2540520"/>
                <a:chExt cx="3501720" cy="87732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198680" y="2540520"/>
                  <a:ext cx="3326760" cy="87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11200" y="2540520"/>
                  <a:ext cx="3501720" cy="87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1377360" y="3418200"/>
                <a:ext cx="2733480" cy="877320"/>
                <a:chOff x="1377360" y="3418200"/>
                <a:chExt cx="2733480" cy="8773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464840" y="3418200"/>
                  <a:ext cx="2558880" cy="87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Nam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377360" y="3418200"/>
                  <a:ext cx="2733480" cy="87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4111200" y="3418200"/>
                <a:ext cx="3501720" cy="877320"/>
                <a:chOff x="4111200" y="3418200"/>
                <a:chExt cx="3501720" cy="8773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198680" y="3418200"/>
                  <a:ext cx="3326760" cy="87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olorListBo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11200" y="3418200"/>
                  <a:ext cx="3501720" cy="87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1377360" y="4295880"/>
                <a:ext cx="2733480" cy="877680"/>
                <a:chOff x="1377360" y="4295880"/>
                <a:chExt cx="2733480" cy="8776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464840" y="4295880"/>
                  <a:ext cx="2558880" cy="87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MultiSelec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377360" y="4295880"/>
                  <a:ext cx="2733480" cy="87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4111200" y="4295880"/>
                <a:ext cx="3501720" cy="877680"/>
                <a:chOff x="4111200" y="4295880"/>
                <a:chExt cx="3501720" cy="8776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4198680" y="4295880"/>
                  <a:ext cx="3326760" cy="87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als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111200" y="4295880"/>
                  <a:ext cx="3501720" cy="87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4" name=""/>
            <p:cNvSpPr/>
            <p:nvPr/>
          </p:nvSpPr>
          <p:spPr>
            <a:xfrm>
              <a:off x="1371600" y="2533680"/>
              <a:ext cx="6248160" cy="2647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7388280" y="642096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4.2.2 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例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：绘图程序的设计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50840" y="1137960"/>
            <a:ext cx="68580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程序设计步骤：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．向窗体中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加入控件并设置其属性（如下图）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）确定窗体的总布局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）向窗体中加入新的控件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添加控件美化窗口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添加新控件并设置其属性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保存项目里的所有文件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为各控件添加响应事件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66220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初始窗口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1447920"/>
            <a:ext cx="5719680" cy="3222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905120" y="5181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设计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97656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coolbands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447920"/>
            <a:ext cx="2484720" cy="2743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0720" y="49528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7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olBa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868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2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876920" y="1143000"/>
            <a:ext cx="2631960" cy="36576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648320" y="502920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捷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17196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设顶标题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05120" y="1295280"/>
            <a:ext cx="5286240" cy="3578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362320" y="5334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窗体构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本章要点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50840" y="1932120"/>
            <a:ext cx="5943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阐述图形与图像控件的基本概念，重点对画布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hap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件进行详细说明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举例说明颜色与运动的控制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举例说明绘图程序的设计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362320" y="14479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10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控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ToolBa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990720" y="2438280"/>
            <a:ext cx="7086240" cy="2971440"/>
            <a:chOff x="990720" y="2438280"/>
            <a:chExt cx="7086240" cy="2971440"/>
          </a:xfrm>
        </p:grpSpPr>
        <p:grpSp>
          <p:nvGrpSpPr>
            <p:cNvPr id="242" name=""/>
            <p:cNvGrpSpPr/>
            <p:nvPr/>
          </p:nvGrpSpPr>
          <p:grpSpPr>
            <a:xfrm>
              <a:off x="997200" y="2444040"/>
              <a:ext cx="7071480" cy="2959200"/>
              <a:chOff x="997200" y="2444040"/>
              <a:chExt cx="7071480" cy="295920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997200" y="2444040"/>
                <a:ext cx="3362400" cy="739440"/>
                <a:chOff x="997200" y="2444040"/>
                <a:chExt cx="3362400" cy="7394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095480" y="2444040"/>
                  <a:ext cx="316584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997200" y="2444040"/>
                  <a:ext cx="336240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359960" y="2444040"/>
                <a:ext cx="3708720" cy="739440"/>
                <a:chOff x="4359960" y="2444040"/>
                <a:chExt cx="3708720" cy="7394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457520" y="2444040"/>
                  <a:ext cx="351324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359960" y="2444040"/>
                  <a:ext cx="370872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997200" y="3183840"/>
                <a:ext cx="3362400" cy="739440"/>
                <a:chOff x="997200" y="3183840"/>
                <a:chExt cx="3362400" cy="7394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1095480" y="3183840"/>
                  <a:ext cx="316584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la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997200" y="3183840"/>
                  <a:ext cx="336240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359960" y="3183840"/>
                <a:ext cx="3708720" cy="739440"/>
                <a:chOff x="4359960" y="3183840"/>
                <a:chExt cx="3708720" cy="7394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457520" y="3183840"/>
                  <a:ext cx="351324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r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359960" y="3183840"/>
                  <a:ext cx="370872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997200" y="3923640"/>
                <a:ext cx="3362400" cy="739800"/>
                <a:chOff x="997200" y="3923640"/>
                <a:chExt cx="3362400" cy="739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095480" y="3923640"/>
                  <a:ext cx="316584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dgeIn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997200" y="3923640"/>
                  <a:ext cx="3362400" cy="73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359960" y="3923640"/>
                <a:ext cx="3708720" cy="739800"/>
                <a:chOff x="4359960" y="3923640"/>
                <a:chExt cx="3708720" cy="7398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4457520" y="3923640"/>
                  <a:ext cx="351324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sNo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359960" y="3923640"/>
                  <a:ext cx="3708720" cy="73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997200" y="4663800"/>
                <a:ext cx="3362400" cy="739440"/>
                <a:chOff x="997200" y="4663800"/>
                <a:chExt cx="3362400" cy="7394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1095480" y="4663800"/>
                  <a:ext cx="316584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dgeOu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997200" y="4663800"/>
                  <a:ext cx="336240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359960" y="4663800"/>
                <a:ext cx="3708720" cy="739440"/>
                <a:chOff x="4359960" y="4663800"/>
                <a:chExt cx="3708720" cy="7394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457520" y="4663800"/>
                  <a:ext cx="351324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sNo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359960" y="4663800"/>
                  <a:ext cx="370872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7" name=""/>
            <p:cNvSpPr/>
            <p:nvPr/>
          </p:nvSpPr>
          <p:spPr>
            <a:xfrm>
              <a:off x="990720" y="2438280"/>
              <a:ext cx="7086240" cy="2971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666880" y="17524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9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窗体控件属性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371600" y="2895480"/>
            <a:ext cx="6095520" cy="2514240"/>
            <a:chOff x="1371600" y="2895480"/>
            <a:chExt cx="6095520" cy="2514240"/>
          </a:xfrm>
        </p:grpSpPr>
        <p:grpSp>
          <p:nvGrpSpPr>
            <p:cNvPr id="270" name=""/>
            <p:cNvGrpSpPr/>
            <p:nvPr/>
          </p:nvGrpSpPr>
          <p:grpSpPr>
            <a:xfrm>
              <a:off x="1376640" y="2900160"/>
              <a:ext cx="6083640" cy="2503440"/>
              <a:chOff x="1376640" y="2900160"/>
              <a:chExt cx="6083640" cy="250344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1376640" y="2900160"/>
                <a:ext cx="2334240" cy="625320"/>
                <a:chOff x="1376640" y="2900160"/>
                <a:chExt cx="2334240" cy="6253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1453680" y="2900160"/>
                  <a:ext cx="218016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控件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376640" y="2900160"/>
                  <a:ext cx="233424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3711240" y="2900160"/>
                <a:ext cx="3749040" cy="625320"/>
                <a:chOff x="3711240" y="2900160"/>
                <a:chExt cx="3749040" cy="6253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787560" y="2900160"/>
                  <a:ext cx="359568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ign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711240" y="2900160"/>
                  <a:ext cx="374904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1376640" y="3525840"/>
                <a:ext cx="2334240" cy="625320"/>
                <a:chOff x="1376640" y="3525840"/>
                <a:chExt cx="2334240" cy="6253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453680" y="3525840"/>
                  <a:ext cx="218016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tatusbar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76640" y="3525840"/>
                  <a:ext cx="233424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711240" y="3525840"/>
                <a:ext cx="3749040" cy="625320"/>
                <a:chOff x="3711240" y="3525840"/>
                <a:chExt cx="3749040" cy="6253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87560" y="3525840"/>
                  <a:ext cx="359568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lBotto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711240" y="3525840"/>
                  <a:ext cx="374904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1376640" y="4151880"/>
                <a:ext cx="2334240" cy="626040"/>
                <a:chOff x="1376640" y="4151880"/>
                <a:chExt cx="2334240" cy="62604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1453680" y="4151880"/>
                  <a:ext cx="2180160" cy="62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anel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376640" y="4151880"/>
                  <a:ext cx="2334240" cy="62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711240" y="4151880"/>
                <a:ext cx="3749040" cy="626040"/>
                <a:chOff x="3711240" y="4151880"/>
                <a:chExt cx="3749040" cy="62604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787560" y="4151880"/>
                  <a:ext cx="3595680" cy="62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lLef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711240" y="4151880"/>
                  <a:ext cx="3749040" cy="62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1376640" y="4778280"/>
                <a:ext cx="2334240" cy="625320"/>
                <a:chOff x="1376640" y="4778280"/>
                <a:chExt cx="2334240" cy="6253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1453680" y="4778280"/>
                  <a:ext cx="218016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anel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376640" y="4778280"/>
                  <a:ext cx="233424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711240" y="4778280"/>
                <a:ext cx="3749040" cy="625320"/>
                <a:chOff x="3711240" y="4778280"/>
                <a:chExt cx="3749040" cy="6253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3787560" y="4778280"/>
                  <a:ext cx="359568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lCli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711240" y="4778280"/>
                  <a:ext cx="374904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5" name=""/>
            <p:cNvSpPr/>
            <p:nvPr/>
          </p:nvSpPr>
          <p:spPr>
            <a:xfrm>
              <a:off x="1371600" y="2895480"/>
              <a:ext cx="6095520" cy="2514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85768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imagelist图片集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81080" y="1600200"/>
            <a:ext cx="4686480" cy="31496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600200" y="5410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10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mageList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像编辑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7720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opuitem属性设置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971800" y="1219320"/>
            <a:ext cx="2776680" cy="42814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523880" y="56386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1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enuIte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性设置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5280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快捷菜单窗口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05120" y="1523880"/>
            <a:ext cx="5333760" cy="35118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362320" y="5334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1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enuIte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93364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过滤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57400" y="1981080"/>
            <a:ext cx="4915080" cy="29289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2209680" y="5410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1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il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94804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523880"/>
            <a:ext cx="5205600" cy="35877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057400" y="5334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1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运行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88280" y="642096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160" y="1523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6600"/>
                </a:solidFill>
                <a:latin typeface="Arial Narrow"/>
                <a:ea typeface="宋体"/>
              </a:rPr>
              <a:t>THANK YOU VERY MUCH </a:t>
            </a:r>
            <a:r>
              <a:rPr b="1" lang="en-US" sz="3900" spc="-1" strike="noStrike">
                <a:solidFill>
                  <a:srgbClr val="006600"/>
                </a:solidFill>
                <a:latin typeface="Arial Narrow"/>
                <a:ea typeface="宋体"/>
              </a:rPr>
              <a:t>！</a:t>
            </a:r>
            <a:endParaRPr b="1" lang="en-US" sz="3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26800" y="2436840"/>
            <a:ext cx="6754680" cy="29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ctr">
              <a:lnSpc>
                <a:spcPct val="160000"/>
              </a:lnSpc>
              <a:spcBef>
                <a:spcPts val="36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Narrow"/>
                <a:ea typeface="宋体"/>
              </a:rPr>
              <a:t>本章到此结束，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ctr">
              <a:lnSpc>
                <a:spcPct val="160000"/>
              </a:lnSpc>
              <a:spcBef>
                <a:spcPts val="36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Narrow"/>
                <a:ea typeface="宋体"/>
              </a:rPr>
              <a:t>谢谢您的光临！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">
            <a:hlinkClick r:id="" action="ppaction://hlinkshowjump?jump=endshow"/>
          </p:cNvPr>
          <p:cNvSpPr/>
          <p:nvPr/>
        </p:nvSpPr>
        <p:spPr>
          <a:xfrm>
            <a:off x="54864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4.1 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基本概念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22080" y="1500120"/>
            <a:ext cx="5257800" cy="38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6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4.1.1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画布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6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4.1.2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Shape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控件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6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4.1.3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PaintBox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控件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4.1.1 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画布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2240" y="1427040"/>
            <a:ext cx="74678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Canvas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提供了子属性，用于配置图形。属性如下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rush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属性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如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4-1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所示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lipRect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属性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ont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属性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Pen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属性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它的部分取值和意义如表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4-1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所示、笔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tyl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属性取值及其意义见表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4-2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所示）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14600" y="1295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pe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取值和意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1981080"/>
            <a:ext cx="6857640" cy="4038480"/>
            <a:chOff x="990720" y="1981080"/>
            <a:chExt cx="6857640" cy="4038480"/>
          </a:xfrm>
        </p:grpSpPr>
        <p:grpSp>
          <p:nvGrpSpPr>
            <p:cNvPr id="52" name=""/>
            <p:cNvGrpSpPr/>
            <p:nvPr/>
          </p:nvGrpSpPr>
          <p:grpSpPr>
            <a:xfrm>
              <a:off x="996480" y="1986120"/>
              <a:ext cx="6844680" cy="4026960"/>
              <a:chOff x="996480" y="1986120"/>
              <a:chExt cx="6844680" cy="402696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996480" y="1986120"/>
                <a:ext cx="2700360" cy="670680"/>
                <a:chOff x="996480" y="1986120"/>
                <a:chExt cx="2700360" cy="6706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1085400" y="1986120"/>
                  <a:ext cx="252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取值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996480" y="1986120"/>
                  <a:ext cx="27003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3697200" y="1986120"/>
                <a:ext cx="4143960" cy="670680"/>
                <a:chOff x="3697200" y="1986120"/>
                <a:chExt cx="4143960" cy="67068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3786120" y="1986120"/>
                  <a:ext cx="3966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意义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697200" y="1986120"/>
                  <a:ext cx="41439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996480" y="2657160"/>
                <a:ext cx="2700360" cy="670680"/>
                <a:chOff x="996480" y="2657160"/>
                <a:chExt cx="2700360" cy="67068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1085400" y="2657160"/>
                  <a:ext cx="252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mblac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996480" y="2657160"/>
                  <a:ext cx="27003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3697200" y="2657160"/>
                <a:ext cx="4143960" cy="670680"/>
                <a:chOff x="3697200" y="2657160"/>
                <a:chExt cx="4143960" cy="6706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3786120" y="2657160"/>
                  <a:ext cx="3966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黑色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3697200" y="2657160"/>
                  <a:ext cx="41439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996480" y="3328200"/>
                <a:ext cx="2700360" cy="671040"/>
                <a:chOff x="996480" y="3328200"/>
                <a:chExt cx="2700360" cy="67104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1085400" y="3328200"/>
                  <a:ext cx="25221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Mpwhit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96480" y="3328200"/>
                  <a:ext cx="270036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697200" y="3328200"/>
                <a:ext cx="4143960" cy="671040"/>
                <a:chOff x="3697200" y="3328200"/>
                <a:chExt cx="4143960" cy="67104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786120" y="3328200"/>
                  <a:ext cx="396612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白色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697200" y="3328200"/>
                  <a:ext cx="414396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996480" y="3999960"/>
                <a:ext cx="2700360" cy="670680"/>
                <a:chOff x="996480" y="3999960"/>
                <a:chExt cx="2700360" cy="67068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085400" y="3999960"/>
                  <a:ext cx="252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mno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996480" y="3999960"/>
                  <a:ext cx="27003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3697200" y="3999960"/>
                <a:ext cx="4143960" cy="670680"/>
                <a:chOff x="3697200" y="3999960"/>
                <a:chExt cx="4143960" cy="67068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786120" y="3999960"/>
                  <a:ext cx="3966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笔的样式不变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97200" y="3999960"/>
                  <a:ext cx="41439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996480" y="4671000"/>
                <a:ext cx="2700360" cy="670680"/>
                <a:chOff x="996480" y="4671000"/>
                <a:chExt cx="2700360" cy="6706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1085400" y="4671000"/>
                  <a:ext cx="252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mno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996480" y="4671000"/>
                  <a:ext cx="27003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3697200" y="4671000"/>
                <a:ext cx="4143960" cy="670680"/>
                <a:chOff x="3697200" y="4671000"/>
                <a:chExt cx="4143960" cy="6706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786120" y="4671000"/>
                  <a:ext cx="3966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将笔的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olor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属性进行“反”运算得到笔的新颜色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97200" y="4671000"/>
                  <a:ext cx="41439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996480" y="5342400"/>
                <a:ext cx="2700360" cy="670680"/>
                <a:chOff x="996480" y="5342400"/>
                <a:chExt cx="2700360" cy="6706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1085400" y="5342400"/>
                  <a:ext cx="252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mcop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996480" y="5342400"/>
                  <a:ext cx="27003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3697200" y="5342400"/>
                <a:ext cx="4143960" cy="670680"/>
                <a:chOff x="3697200" y="5342400"/>
                <a:chExt cx="4143960" cy="6706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3786120" y="5342400"/>
                  <a:ext cx="3966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笔的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olor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属性为笔的新颜色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697200" y="5342400"/>
                  <a:ext cx="41439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" name=""/>
            <p:cNvSpPr/>
            <p:nvPr/>
          </p:nvSpPr>
          <p:spPr>
            <a:xfrm>
              <a:off x="990720" y="1981080"/>
              <a:ext cx="6857640" cy="4038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0" y="6094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yl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取值及意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914400" y="1600200"/>
            <a:ext cx="7314840" cy="3962520"/>
            <a:chOff x="914400" y="1600200"/>
            <a:chExt cx="7314840" cy="3962520"/>
          </a:xfrm>
        </p:grpSpPr>
        <p:grpSp>
          <p:nvGrpSpPr>
            <p:cNvPr id="92" name=""/>
            <p:cNvGrpSpPr/>
            <p:nvPr/>
          </p:nvGrpSpPr>
          <p:grpSpPr>
            <a:xfrm>
              <a:off x="920880" y="1604520"/>
              <a:ext cx="7301160" cy="3953160"/>
              <a:chOff x="920880" y="1604520"/>
              <a:chExt cx="7301160" cy="395316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920880" y="1604520"/>
                <a:ext cx="2863080" cy="564480"/>
                <a:chOff x="920880" y="1604520"/>
                <a:chExt cx="2863080" cy="5644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015920" y="1604520"/>
                  <a:ext cx="2673000" cy="56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取值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920880" y="1604520"/>
                  <a:ext cx="2863080" cy="56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784320" y="1604520"/>
                <a:ext cx="4437720" cy="564480"/>
                <a:chOff x="3784320" y="1604520"/>
                <a:chExt cx="4437720" cy="5644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878640" y="1604520"/>
                  <a:ext cx="4248720" cy="56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意义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784320" y="1604520"/>
                  <a:ext cx="4437720" cy="56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920880" y="2169000"/>
                <a:ext cx="2863080" cy="564480"/>
                <a:chOff x="920880" y="2169000"/>
                <a:chExt cx="2863080" cy="5644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015920" y="2169000"/>
                  <a:ext cx="2673000" cy="56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ssoli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920880" y="2169000"/>
                  <a:ext cx="2863080" cy="56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784320" y="2169000"/>
                <a:ext cx="4437720" cy="564480"/>
                <a:chOff x="3784320" y="2169000"/>
                <a:chExt cx="4437720" cy="5644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878640" y="2169000"/>
                  <a:ext cx="4248720" cy="56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笔画出的线为实心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84320" y="2169000"/>
                  <a:ext cx="4437720" cy="56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920880" y="2733840"/>
                <a:ext cx="2863080" cy="564840"/>
                <a:chOff x="920880" y="2733840"/>
                <a:chExt cx="2863080" cy="5648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015920" y="2733840"/>
                  <a:ext cx="26730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sdas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920880" y="2733840"/>
                  <a:ext cx="286308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3784320" y="2733840"/>
                <a:ext cx="4437720" cy="564840"/>
                <a:chOff x="3784320" y="2733840"/>
                <a:chExt cx="4437720" cy="5648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878640" y="2733840"/>
                  <a:ext cx="424872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线条为虚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784320" y="2733840"/>
                  <a:ext cx="44377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920880" y="3298680"/>
                <a:ext cx="2863080" cy="564480"/>
                <a:chOff x="920880" y="3298680"/>
                <a:chExt cx="2863080" cy="5644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015920" y="3298680"/>
                  <a:ext cx="2673000" cy="56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sdo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920880" y="3298680"/>
                  <a:ext cx="2863080" cy="56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3784320" y="3298680"/>
                <a:ext cx="4437720" cy="564480"/>
                <a:chOff x="3784320" y="3298680"/>
                <a:chExt cx="4437720" cy="5644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878640" y="3298680"/>
                  <a:ext cx="4248720" cy="56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线条为点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784320" y="3298680"/>
                  <a:ext cx="4437720" cy="56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920880" y="3863520"/>
                <a:ext cx="2863080" cy="564480"/>
                <a:chOff x="920880" y="3863520"/>
                <a:chExt cx="2863080" cy="5644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015920" y="3863520"/>
                  <a:ext cx="2673000" cy="56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sdashdo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920880" y="3863520"/>
                  <a:ext cx="2863080" cy="56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784320" y="3863520"/>
                <a:ext cx="4437720" cy="564480"/>
                <a:chOff x="3784320" y="3863520"/>
                <a:chExt cx="4437720" cy="5644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878640" y="3863520"/>
                  <a:ext cx="4248720" cy="56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线条为点划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784320" y="3863520"/>
                  <a:ext cx="4437720" cy="56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920880" y="4428000"/>
                <a:ext cx="2863080" cy="564480"/>
                <a:chOff x="920880" y="4428000"/>
                <a:chExt cx="2863080" cy="5644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015920" y="4428000"/>
                  <a:ext cx="2673000" cy="56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sdashdotdo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920880" y="4428000"/>
                  <a:ext cx="2863080" cy="56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784320" y="4428000"/>
                <a:ext cx="4437720" cy="564480"/>
                <a:chOff x="3784320" y="4428000"/>
                <a:chExt cx="4437720" cy="5644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878640" y="4428000"/>
                  <a:ext cx="4248720" cy="56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线条为双点划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784320" y="4428000"/>
                  <a:ext cx="4437720" cy="56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920880" y="4992840"/>
                <a:ext cx="2863080" cy="564840"/>
                <a:chOff x="920880" y="4992840"/>
                <a:chExt cx="2863080" cy="5648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015920" y="4992840"/>
                  <a:ext cx="26730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sclea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920880" y="4992840"/>
                  <a:ext cx="286308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3784320" y="4992840"/>
                <a:ext cx="4437720" cy="564840"/>
                <a:chOff x="3784320" y="4992840"/>
                <a:chExt cx="4437720" cy="564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878640" y="4992840"/>
                  <a:ext cx="424872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线条为透明的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784320" y="4992840"/>
                  <a:ext cx="44377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" name=""/>
            <p:cNvSpPr/>
            <p:nvPr/>
          </p:nvSpPr>
          <p:spPr>
            <a:xfrm>
              <a:off x="914400" y="1600200"/>
              <a:ext cx="7314840" cy="3962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388280" y="642096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4.1.2  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Shape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控件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4880" y="1282680"/>
            <a:ext cx="716256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Shap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控件的一些属性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rush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属性：用于设置几何图形内部的填充特性，包括填充的颜色和图案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Pen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属性：用于设置画笔的属性包括画笔的颜色、线型和宽度等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hap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属性：用于指定要显示的几何图形的种类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hap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属性的取值和意义如表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4-3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33720" y="1219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3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hap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属性的取值和意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990720" y="1828800"/>
            <a:ext cx="7009920" cy="4165560"/>
            <a:chOff x="990720" y="1828800"/>
            <a:chExt cx="7009920" cy="4165560"/>
          </a:xfrm>
        </p:grpSpPr>
        <p:grpSp>
          <p:nvGrpSpPr>
            <p:cNvPr id="141" name=""/>
            <p:cNvGrpSpPr/>
            <p:nvPr/>
          </p:nvGrpSpPr>
          <p:grpSpPr>
            <a:xfrm>
              <a:off x="996840" y="1833480"/>
              <a:ext cx="6996960" cy="4156200"/>
              <a:chOff x="996840" y="1833480"/>
              <a:chExt cx="6996960" cy="41562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996840" y="1833480"/>
                <a:ext cx="2921040" cy="593640"/>
                <a:chOff x="996840" y="1833480"/>
                <a:chExt cx="2921040" cy="5936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087920" y="1833480"/>
                  <a:ext cx="273924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取值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996840" y="1833480"/>
                  <a:ext cx="292104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918240" y="1833480"/>
                <a:ext cx="4075560" cy="593640"/>
                <a:chOff x="3918240" y="1833480"/>
                <a:chExt cx="4075560" cy="5936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009320" y="1833480"/>
                  <a:ext cx="3893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意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18240" y="1833480"/>
                  <a:ext cx="4075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996840" y="2427120"/>
                <a:ext cx="2921040" cy="593640"/>
                <a:chOff x="996840" y="2427120"/>
                <a:chExt cx="2921040" cy="593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87920" y="2427120"/>
                  <a:ext cx="273924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tCircl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996840" y="2427120"/>
                  <a:ext cx="292104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918240" y="2427120"/>
                <a:ext cx="4075560" cy="593640"/>
                <a:chOff x="3918240" y="2427120"/>
                <a:chExt cx="4075560" cy="5936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009320" y="2427120"/>
                  <a:ext cx="3893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画一个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918240" y="2427120"/>
                  <a:ext cx="4075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996840" y="3020760"/>
                <a:ext cx="2921040" cy="594000"/>
                <a:chOff x="996840" y="3020760"/>
                <a:chExt cx="2921040" cy="5940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087920" y="3020760"/>
                  <a:ext cx="273924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tEllips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996840" y="3020760"/>
                  <a:ext cx="292104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3918240" y="3020760"/>
                <a:ext cx="4075560" cy="594000"/>
                <a:chOff x="3918240" y="3020760"/>
                <a:chExt cx="4075560" cy="5940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009320" y="3020760"/>
                  <a:ext cx="389376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画一个椭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918240" y="3020760"/>
                  <a:ext cx="40755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996840" y="3614760"/>
                <a:ext cx="2921040" cy="593640"/>
                <a:chOff x="996840" y="3614760"/>
                <a:chExt cx="2921040" cy="5936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087920" y="3614760"/>
                  <a:ext cx="273924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tRectangl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96840" y="3614760"/>
                  <a:ext cx="292104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3918240" y="3614760"/>
                <a:ext cx="4075560" cy="593640"/>
                <a:chOff x="3918240" y="3614760"/>
                <a:chExt cx="4075560" cy="5936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4009320" y="3614760"/>
                  <a:ext cx="3893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画一个矩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918240" y="3614760"/>
                  <a:ext cx="4075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996840" y="4208400"/>
                <a:ext cx="2921040" cy="593640"/>
                <a:chOff x="996840" y="4208400"/>
                <a:chExt cx="2921040" cy="5936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087920" y="4208400"/>
                  <a:ext cx="273924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tRoundRec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996840" y="4208400"/>
                  <a:ext cx="292104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918240" y="4208400"/>
                <a:ext cx="4075560" cy="593640"/>
                <a:chOff x="3918240" y="4208400"/>
                <a:chExt cx="4075560" cy="593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009320" y="4208400"/>
                  <a:ext cx="3893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画一个带圆角的矩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918240" y="4208400"/>
                  <a:ext cx="4075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996840" y="4802040"/>
                <a:ext cx="2921040" cy="593640"/>
                <a:chOff x="996840" y="4802040"/>
                <a:chExt cx="2921040" cy="5936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087920" y="4802040"/>
                  <a:ext cx="273924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tRoundSquar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996840" y="4802040"/>
                  <a:ext cx="292104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918240" y="4802040"/>
                <a:ext cx="4075560" cy="593640"/>
                <a:chOff x="3918240" y="4802040"/>
                <a:chExt cx="4075560" cy="593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009320" y="4802040"/>
                  <a:ext cx="3893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画一个带圆角的正方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918240" y="4802040"/>
                  <a:ext cx="4075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996840" y="5395680"/>
                <a:ext cx="2921040" cy="594000"/>
                <a:chOff x="996840" y="5395680"/>
                <a:chExt cx="2921040" cy="5940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087920" y="5395680"/>
                  <a:ext cx="273924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tSquar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996840" y="5395680"/>
                  <a:ext cx="292104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918240" y="5395680"/>
                <a:ext cx="4075560" cy="594000"/>
                <a:chOff x="3918240" y="5395680"/>
                <a:chExt cx="4075560" cy="59400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009320" y="5395680"/>
                  <a:ext cx="389376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画一个正方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918240" y="5395680"/>
                  <a:ext cx="40755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" name=""/>
            <p:cNvSpPr/>
            <p:nvPr/>
          </p:nvSpPr>
          <p:spPr>
            <a:xfrm>
              <a:off x="990720" y="1828800"/>
              <a:ext cx="7009920" cy="4165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7388280" y="642096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4.1.3  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PaintBox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控件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355400"/>
            <a:ext cx="716292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PaintBox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属性有很多，但我们经常用到的只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anva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PaintBox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方法中，只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Paint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比较重要。此方法使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PaintBox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对自己上面的图像进行强制更新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PaintBox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事件响应函数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OnPain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每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WM-PAINT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消息发来时这个函数被调用，从而使其上面的图像被更新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7388280" y="642096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8T18:28:15Z</dcterms:created>
  <dc:creator>H. James Toland III</dc:creator>
  <dc:description/>
  <dc:language>en-US</dc:language>
  <cp:lastModifiedBy>lcb</cp:lastModifiedBy>
  <dcterms:modified xsi:type="dcterms:W3CDTF">2002-03-30T08:31:26Z</dcterms:modified>
  <cp:revision>47</cp:revision>
  <dc:subject/>
  <dc:title>Introduction</dc:title>
</cp:coreProperties>
</file>